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13.jpeg" ContentType="image/jpeg"/>
  <Override PartName="/ppt/media/image28.wmf" ContentType="image/x-wmf"/>
  <Override PartName="/ppt/media/image5.wmf" ContentType="image/x-wmf"/>
  <Override PartName="/ppt/media/image30.wmf" ContentType="image/x-wmf"/>
  <Override PartName="/ppt/media/image6.png" ContentType="image/png"/>
  <Override PartName="/ppt/media/image31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8.wmf" ContentType="image/x-wmf"/>
  <Override PartName="/ppt/media/image9.wmf" ContentType="image/x-wmf"/>
  <Override PartName="/ppt/media/image23.wmf" ContentType="image/x-wmf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4.jpeg" ContentType="image/jpeg"/>
  <Override PartName="/ppt/media/image16.wmf" ContentType="image/x-wmf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CB6-FCF1-4BEB-AC0B-74D5DE7E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9C9-CC0D-4A4E-8400-B44EA8EB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3D3-6B12-485B-AB78-40A54767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BF5-BBC6-45C5-9C5B-65FD5F09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681-DE7A-4840-9916-97BD7C31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6F7-7D85-463D-9060-0BB7425B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476-D478-4E43-9194-731C186B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58E-0D54-401A-AE65-87B320D1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C0A-DF2A-43F9-B218-CDFD81A0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292-8D9C-47D4-B48D-74BEA80E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F76-C25E-4EE6-93C7-48BA516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254-3966-493A-83F6-29CD887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1209-7AC8-4613-BAE6-460185D04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c0000"/>
                </a:solidFill>
                <a:latin typeface="Times New Roman"/>
              </a:rPr>
              <a:t>Study of antioxidative properties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f </a:t>
            </a:r>
            <a:r>
              <a:rPr b="1" lang="sk-SK" sz="2400" spc="-1" strike="noStrike">
                <a:solidFill>
                  <a:srgbClr val="cc0000"/>
                </a:solidFill>
                <a:latin typeface="Times New Roman"/>
              </a:rPr>
              <a:t>natural and synthetic substances on high-molecular-weight hyaluronan degradation </a:t>
            </a:r>
            <a:r>
              <a:rPr b="1" i="1" lang="sk-SK" sz="2400" spc="-1" strike="noStrike">
                <a:solidFill>
                  <a:srgbClr val="cc0000"/>
                </a:solidFill>
                <a:latin typeface="Times New Roman"/>
              </a:rPr>
              <a:t>in vitro</a:t>
            </a:r>
            <a:r>
              <a:rPr b="1" lang="sk-SK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lang="sk-SK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ain investigators: Dipl.- Chem.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Stankovsk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pl.- Chem.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Šoltés, DrSc.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pl.- Chem.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Gemeiner, DrS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Institute of Experimental Pharmacology, Slovak Academy of Sciences, Bratislava, Slovak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Institute of Chemistry, Slovak Academy of Sciences, Bratislava, Slovak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ooperation with:        Doc.Dipl.- Chem. V. Brez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ipl. - Chem. J. Rýchly,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DrSc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ipl. - Chem. V. Sasink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A. H. Spalteholz, Ph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of. Dr. J. Arn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aculty of Chemistry and Food Technology, Slovak Technik University, Bratislava, Slovak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Polymer Institute, Slovak Academy of Sciences, Bratislava, Slovak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Institute of Medical Physics and Biophysics, University of Leipzig, Germany</a:t>
            </a:r>
            <a:r>
              <a:rPr b="0" i="1" lang="sk-SK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6666"/>
                </a:solidFill>
                <a:latin typeface="Times New Roman"/>
              </a:rPr>
              <a:t>Brookfield DV-II+ visco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60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66"/>
                </a:solidFill>
                <a:latin typeface="Times New Roman"/>
              </a:rPr>
              <a:t>Viscometric cup and spin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88080" y="2286000"/>
            <a:ext cx="3951000" cy="426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04920" y="2286000"/>
            <a:ext cx="402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cc"/>
                </a:solidFill>
                <a:latin typeface="Times New Roman"/>
              </a:rPr>
              <a:t>Study of HA degradation </a:t>
            </a:r>
            <a:r>
              <a:rPr b="0" i="1" lang="sk-SK" sz="4000" spc="-1" strike="noStrike">
                <a:solidFill>
                  <a:srgbClr val="3333cc"/>
                </a:solidFill>
                <a:latin typeface="Times New Roman"/>
              </a:rPr>
              <a:t>in vi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xidative species: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HOCl, 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                          O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1. rotational viscometry (pri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2. IR, UV-VIS spectroscopy, EPR, TGA, DSC, 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Material and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HA (2.5 mg/ml) is swollen a dissolved 24 hours in 0.15 M NaCl solution. Sample is stored in dar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tock solutions H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CuCl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ascorbic acid and HOCl are prepared in  0.15 M NaCl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easurement conditions are:  25</a:t>
            </a:r>
            <a:r>
              <a:rPr b="0" lang="sk-SK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, 180 rpm, the first measurement begins 2 min. after reaction onset. Intervals of measurements: 3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Hyaluronan degradation is termed by precipitation in 20 ml 96% etan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fter 24 hours storage in the fridge precipitate is sedimented and  sediment is 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nted by 20 ml 96% ethanol. The sample is sedimented and dried up in ex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cc"/>
                </a:solidFill>
                <a:latin typeface="Times New Roman"/>
              </a:rPr>
              <a:t>Hypox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a</a:t>
            </a:r>
            <a:r>
              <a:rPr b="0" lang="sk-SK" sz="4000" spc="-1" strike="noStrike">
                <a:solidFill>
                  <a:srgbClr val="3333cc"/>
                </a:solidFill>
                <a:latin typeface="Times New Roman"/>
              </a:rPr>
              <a:t> and reoxygenation in the j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32040" y="1981080"/>
          <a:ext cx="5479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1981080"/>
                    <a:ext cx="5479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cc"/>
                </a:solidFill>
                <a:latin typeface="Times New Roman"/>
              </a:rPr>
              <a:t>Reactions in healthy j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n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scorbic ac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n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xidized ascorbic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n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O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→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cc"/>
                </a:solidFill>
                <a:latin typeface="Times New Roman"/>
              </a:rPr>
              <a:t>Reaction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sk-SK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sk-SK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sk-SK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sk-SK" sz="4000" spc="-1" strike="noStrike">
                <a:solidFill>
                  <a:srgbClr val="3333cc"/>
                </a:solidFill>
                <a:latin typeface="Times New Roman"/>
              </a:rPr>
              <a:t>CuCl</a:t>
            </a:r>
            <a:r>
              <a:rPr b="0" lang="sk-SK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H 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+ HO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→ 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+ HO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me course of 30 EPR spect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DMPO spin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pping ag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66920" y="2708280"/>
            <a:ext cx="25909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(CuCl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 = 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(CuCl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 = 2.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2349360"/>
          <a:ext cx="4195440" cy="36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4195440" cy="36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inetics of </a:t>
            </a: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the decrease in viscosity of a HA solution incubated with </a:t>
            </a:r>
            <a:r>
              <a:rPr b="0" lang="sk-SK" sz="3200" spc="-1" strike="noStrike">
                <a:solidFill>
                  <a:srgbClr val="3333cc"/>
                </a:solidFill>
                <a:latin typeface="Times New Roman"/>
              </a:rPr>
              <a:t>CuCl</a:t>
            </a:r>
            <a:r>
              <a:rPr b="0" lang="sk-SK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or H</a:t>
            </a:r>
            <a:r>
              <a:rPr b="0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2421000"/>
          <a:ext cx="3809880" cy="30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21000"/>
                    <a:ext cx="380988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72000" y="2476440"/>
          <a:ext cx="3809880" cy="30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476440"/>
                    <a:ext cx="380988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inetics of </a:t>
            </a: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the decrease in viscosity of a HA solution incubated with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sk-SK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sk-SK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sk-SK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sk-SK" sz="3200" spc="-1" strike="noStrike">
                <a:solidFill>
                  <a:srgbClr val="3333cc"/>
                </a:solidFill>
                <a:latin typeface="Times New Roman"/>
              </a:rPr>
              <a:t>CuCl</a:t>
            </a:r>
            <a:r>
              <a:rPr b="0" lang="sk-SK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514600"/>
          <a:ext cx="38098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38098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2522520"/>
          <a:ext cx="3809880" cy="30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522520"/>
                    <a:ext cx="38098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0000"/>
                </a:solidFill>
                <a:latin typeface="Times New Roman"/>
              </a:rPr>
              <a:t>Composition of j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31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hara</a:t>
            </a: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cterization of degraded HA by methods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of </a:t>
            </a: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IR and chemiluminome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48320" y="2743200"/>
          <a:ext cx="380988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43200"/>
                    <a:ext cx="380988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838080" y="2660760"/>
          <a:ext cx="3621240" cy="29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660760"/>
                    <a:ext cx="362124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Viscosity changes of hyaluronan in system CuCl</a:t>
            </a:r>
            <a:r>
              <a:rPr b="0" lang="sk-SK" sz="36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+ H</a:t>
            </a:r>
            <a:r>
              <a:rPr b="0" lang="sk-SK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sk-SK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 + ascorbic ac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2286000"/>
          <a:ext cx="36766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3676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541760" y="2133720"/>
          <a:ext cx="345924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1760" y="2133720"/>
                    <a:ext cx="345924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Viscosity changes of hyaluronan after additio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of H</a:t>
            </a: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O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2492280"/>
          <a:ext cx="42465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42465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648320" y="2709720"/>
          <a:ext cx="380988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709720"/>
                    <a:ext cx="38098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0000"/>
                </a:solidFill>
                <a:latin typeface="Times New Roman"/>
              </a:rPr>
              <a:t>Possible models for testing of antioxidative effects of substances</a:t>
            </a:r>
            <a:r>
              <a:rPr b="0" lang="sk-SK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289480" y="4114800"/>
          <a:ext cx="2525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9480" y="4114800"/>
                    <a:ext cx="2525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203480" y="1981080"/>
          <a:ext cx="277488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3480" y="1981080"/>
                    <a:ext cx="277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143000" y="4114800"/>
          <a:ext cx="266688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114800"/>
                    <a:ext cx="2666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99200" y="1981080"/>
          <a:ext cx="2508120" cy="198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9200" y="1981080"/>
                    <a:ext cx="25081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cc00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gh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molecular - weight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of  HA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d its rheological properties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edeterminate this biopolymer to b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in vitr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probe for study of eff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of oxidative species on biopolymer as such, and for testing prooxidative or antioxidative behalf of different substa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igh – molecula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- weigh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yaluronan may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ontai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races of polyvalent metal cations (F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u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u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…) which influence its degradation via Fenton reaction in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stem with hydrogen perox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he addition of H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ffects the hyaluronan degrad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he system CuCl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speeds up the degradation. Copper ions alone don´t influence the degradation. EPR with DMPO-spin trapping provided generation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n this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he other hand, the EPR spin trapping experiments performed in aerated DMSO/water mixed solvent (5:1; v/v) in the presence of hydrogen peroxi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u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ons evidenced the generation of thre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PO-adducts attributed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PO-OOH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PO-OCH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PO-CH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ddition of ascorbic aci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high concentration sped up the degradation. IR spectrum did not detect any oxo - group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he obtained results indicate that HA is degraded by HOCl only at hig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hysiological concentrations. Its function in inflamed joints is probably primarily antimicrobi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 different composition of degradative systems induces different chemical proces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otational viscometry by means of inert material (Teflon) might be the most efficient analytical method in kinetics study of hyaluronan degrad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cc0000"/>
                </a:solidFill>
                <a:latin typeface="Times New Roman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L. Šoltés,  D. Lath, R. Mendici, P. Bystrický: Radical degradation of high molecular weight hyaluronan: Inhibition of the reaction by ibuprofen enantiomers. Methods Find. Exp. Clin. Pharmacol. 23(2), 2001, 65-7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S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tankovsk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L. Š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olté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. V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ikartovsk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R. M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endich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D. L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a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M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olnárov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nd P. G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emein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udy of Hyaluronan Degradation by Means of Rotational Viscometry: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ibution of the Material of Viscomete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 Chem.Papers 58 (5), 2004, 341-34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S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tankovsk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L. Š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olté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. V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ikartovsk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emein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oga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akoš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gradation of high–molecular–weight hyaluronan: A rotational viscometry study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 Biologi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005, vol. 60, Suppl. 17., 149-15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Lath, K. Csomorová, G. Kolláriková, M. Stankovská, L. Šoltés: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lar Mass–Intrinsic Viscosity Relationship of High-Molar-Mass Hyaluronans: Involvement of Shear Rate. Chem. Papers, 2005 – in pr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Šoltés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nkovská, G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gan, P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meiner, and 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ern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: Contribution of Oxidative-Reductive Reactions to High-Molecular-Weight Hyaluronan Catabolism. Chemistry and Biodiversity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, 2005, 1242-1245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cc0000"/>
                </a:solidFill>
                <a:latin typeface="Times New Roman"/>
              </a:rPr>
              <a:t>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M. Stankovská,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L. Šoltés, D. Lath, A. Vikartovská, P. Gemeiner, G.Kogan, D. Bakoš: Degradation of high-molecular-weight hyaluronan: Viscometry measurements. 9 interdisciplinary slovak-czech toxikological conference, Píla-Častá,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lovak Republic,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eptember 2004 + abstract in text-b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M. Stankovská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 L. Šoltés, A. Vikartovská, P. Gemeiner: Viscometry study of hyaluronan degradation  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in vitro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. Švecov Memorial, Pharmaceutical Faculty,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ratislava, Slovak Republic,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ovember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M. Stankovská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 L. Šoltés, V. .Brezová, V. Sasinková, E. Hrabárová, P. Gemeiner: Study of oxidative damage of high-molecular-weight hyaluronan in the system CuCl</a:t>
            </a:r>
            <a:r>
              <a:rPr b="0" lang="sk-SK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sk-SK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. 55.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harmakological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ys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 Hradec Králové, Czech Republic,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2005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abstract in Č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sko-slovenská fyziologi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0000"/>
                </a:solidFill>
                <a:latin typeface="Times New Roman"/>
              </a:rPr>
              <a:t>Synovial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0720"/>
            <a:ext cx="798984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ltrafiltrate of blood plasma: </a:t>
            </a:r>
            <a:r>
              <a:rPr b="1" lang="sk-SK" sz="2400" spc="-1" strike="noStrike">
                <a:solidFill>
                  <a:srgbClr val="990099"/>
                </a:solidFill>
                <a:latin typeface="Times New Roman"/>
              </a:rPr>
              <a:t>H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glycoprote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Function of HA: lubricant, shock - absorber, trapper of 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      potential damage molecu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376720" cy="182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48000" y="4005360"/>
            <a:ext cx="2232000" cy="1860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230328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7415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0000"/>
                </a:solidFill>
                <a:latin typeface="Times New Roman"/>
              </a:rPr>
              <a:t>Hyaluronan</a:t>
            </a:r>
            <a:br>
              <a:rPr sz="4000"/>
            </a:br>
            <a:br>
              <a:rPr sz="1600"/>
            </a:b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s composed from disaccharid units of glucuronic acid and  N-acetylglucosamine, connected with β(1-3) a β(1-4) glycosidic bo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44760" y="3498840"/>
          <a:ext cx="575136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4760" y="3498840"/>
                    <a:ext cx="575136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0000"/>
                </a:solidFill>
                <a:latin typeface="Times New Roman"/>
              </a:rPr>
              <a:t>Degradation of HA in synovial fl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amage of synovi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Fragments of degraded HA act proinflammatory and 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unostimul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1989000"/>
          <a:ext cx="3760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89000"/>
                    <a:ext cx="3760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523880" y="2133720"/>
          <a:ext cx="1343160" cy="12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133720"/>
                    <a:ext cx="13431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Possible peroxynitrite re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212920"/>
          <a:ext cx="568800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212920"/>
                    <a:ext cx="56880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Mechanism of damage by HOCl/</a:t>
            </a:r>
            <a:r>
              <a:rPr b="0" lang="sk-SK" sz="36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sk-SK" sz="3600" spc="-1" strike="noStrike">
                <a:solidFill>
                  <a:srgbClr val="3333cc"/>
                </a:solidFill>
                <a:latin typeface="Times New Roman"/>
              </a:rPr>
              <a:t>OCl</a:t>
            </a:r>
            <a:r>
              <a:rPr b="0" lang="sk-SK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32000" y="2276640"/>
          <a:ext cx="583236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583236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6666"/>
                </a:solidFill>
                <a:latin typeface="Times New Roman"/>
              </a:rPr>
              <a:t>Kinetics of hyaluronan degradation and its inhibition by ibuprofen and stobad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2558880"/>
            <a:ext cx="3809880" cy="2959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3810240" cy="299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58120" y="56386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HP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5661000"/>
            <a:ext cx="44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66"/>
                </a:solidFill>
                <a:latin typeface="Times New Roman"/>
              </a:rPr>
              <a:t>Capillary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6666"/>
                </a:solidFill>
                <a:latin typeface="Times New Roman"/>
              </a:rPr>
              <a:t>visc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8:56:04Z</dcterms:created>
  <dc:creator>XX</dc:creator>
  <dc:description/>
  <dc:language>en-US</dc:language>
  <cp:lastModifiedBy>Šoltés</cp:lastModifiedBy>
  <dcterms:modified xsi:type="dcterms:W3CDTF">2005-11-28T11:19:32Z</dcterms:modified>
  <cp:revision>177</cp:revision>
  <dc:subject/>
  <dc:title>Implication of ROS in cartilage degradation and related synovium inflammatory reaction </dc:title>
</cp:coreProperties>
</file>